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E26-BE55-42BB-9DB7-9CE43EF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7E5-85AE-41E3-9AF8-44F3E141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B5C-B6A1-43FE-95C2-9B94C65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257-9429-413E-B841-EAC1788C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6C8-7BF6-47B3-8E69-0C68DFC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318-8C20-4AFA-83BD-D87A684D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0F0-CE8B-4AA9-B386-09933BF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E0A-C852-4871-B028-04E75B3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263-6024-422D-B448-F892362A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842-B46B-46BE-B30F-42C8478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A7A-061E-4C35-BD32-243C51B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D55-8D25-4EB0-A3A6-736E40B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D4F-85C0-462A-A39A-FDB1872B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6000159" descr=""/>
          <p:cNvPicPr/>
          <p:nvPr/>
        </p:nvPicPr>
        <p:blipFill>
          <a:blip r:embed="rId2"/>
          <a:stretch/>
        </p:blipFill>
        <p:spPr>
          <a:xfrm>
            <a:off x="14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2200" y="214200"/>
            <a:ext cx="749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لي بتجمعن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يي بتبقى مهما يص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منفرق بالأجن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له تجسد طفل صغ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خلص كل الناس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في عبد وما في ح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ة بالله تساوي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 الخالق زاح الش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دنا تخاوي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6000146" descr=""/>
          <p:cNvPicPr/>
          <p:nvPr/>
        </p:nvPicPr>
        <p:blipFill>
          <a:blip r:embed="rId1"/>
          <a:stretch/>
        </p:blipFill>
        <p:spPr>
          <a:xfrm>
            <a:off x="0" y="-11160"/>
            <a:ext cx="10287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7680" y="-57240"/>
            <a:ext cx="10348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هي اللي بتج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نيتنا زيحوا الم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ها تزهر ألو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الخالق أعذب ص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ادي السلا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هر الخالق خلى الشمس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زل بخيوطها ألو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لب الإن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و بيدخل مثل الهم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1:24Z</dcterms:created>
  <dc:creator>USER</dc:creator>
  <dc:description/>
  <dc:language>en-US</dc:language>
  <cp:lastModifiedBy>USER</cp:lastModifiedBy>
  <dcterms:modified xsi:type="dcterms:W3CDTF">2002-10-30T15:34:48Z</dcterms:modified>
  <cp:revision>1</cp:revision>
  <dc:subject/>
  <dc:title>PowerPoint Presentation</dc:title>
</cp:coreProperties>
</file>